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B1B3C-9CE2-404A-87D2-442F41B1755B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Removal of the orthodontic appliances after 22 months of initial treatme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Follow-up facial photographs at 6 year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Definitive restorations with feldspathic porcelain crow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Follow-up cephalometric, periapical, and panoramic radiographs at 6 year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A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Superimposed cephalometric tracings show the changes from pretreatment (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red lin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) to posttreatment (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black lin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)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B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partial superimpositions: maxilla and mandibl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osttreatment dental casts after 6 year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Facial pretreatment photograph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Intraoral photographs showing that most teeth were periodontally compromis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A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Class I cephalometric characteristics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B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panoramic radiographs showing generalized periodontal bone lo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dental cast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A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Onset of orthodontic extrusion treatment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B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intraoral progress photograph after 7 months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C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 eruptive phase followed by stabilization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D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provisional titanium cylinders connected to the implant central incisors after the orthodontic treatment was finaliz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A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Initial periapical radiographic examination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and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C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periapical radiographic examination showing the complete orthodontic treatment after 14 months. Note that the bone migrated in the apical direction when an orthodontic force was appli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and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B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Atraumatic extractions of the maxillary right and left lateral incisors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C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placement of implant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anoramic and periapical radiographic examinations showed the correct angulations of adjacent teeth as well as the correct positions of the implants in the maxillary arc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lsevier.com/termsandcondition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0360" y="1260360"/>
            <a:ext cx="86407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31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Six-year follow-up of maxillary anterior rehabilitation with forced orthodontic extrusion: Achieving esthetic excellence with a multidisciplinary approach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7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Luiz Antonio Borelli de Barros, Maurício de Almeida Cardoso, Érica Dorigatti de Avila, Rafael Scaf de Molon, Danilo Furquim Siqueira, Francisco de Assis Mollo-Junior, Leopoldino Capelloza Filho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ume 144, Issue 4, Pages 607-615 (October 2013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OI: 10.1016/j.ajodo.2012.10.02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22360" y="2562120"/>
            <a:ext cx="6350040" cy="1382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22360" y="1941480"/>
            <a:ext cx="6350040" cy="2627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22360" y="1974960"/>
            <a:ext cx="6350040" cy="2558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75080" y="762120"/>
            <a:ext cx="4044960" cy="498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22360" y="1571760"/>
            <a:ext cx="6350040" cy="3363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22360" y="1830240"/>
            <a:ext cx="6350040" cy="284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22360" y="1967040"/>
            <a:ext cx="6350040" cy="2576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22360" y="1955880"/>
            <a:ext cx="6350040" cy="2597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22360" y="2130480"/>
            <a:ext cx="6350040" cy="2247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22360" y="1839960"/>
            <a:ext cx="6350040" cy="2830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22360" y="1128600"/>
            <a:ext cx="6350040" cy="4249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22360" y="1897200"/>
            <a:ext cx="6350040" cy="2714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22360" y="2557440"/>
            <a:ext cx="6350040" cy="1392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22360" y="2352600"/>
            <a:ext cx="6350040" cy="1803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